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125D-8C79-4C5F-B451-4D920100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C65E-26F2-4AF3-82C8-EFA3A9E1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6508-57CF-49C9-B4CA-B8B92F0A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7C6D-F178-4B55-B87F-FD31C7DE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98C3-ADBD-49DA-8474-C090C561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ECCB-71E8-4DAF-8630-7573F768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54D7-1B71-4689-86CF-6F9B1A69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8CA6-6D1C-4E09-B95E-EF50E0C7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C968-6D4D-4D5C-A10A-40D11F79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D5A5-ED08-4295-A911-2DF79C0E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020D-4D67-4038-829B-B20A8A17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0887-D054-4F11-ADF3-887AFEDB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361515F-EDD8-49DA-A80B-3B6272201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622440"/>
            <a:ext cx="4343400" cy="4336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465444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3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234468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AVILON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v areálu spol. Veletrhy Brno, a. s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ODROBNÝ PRŮZKUM STÁVAJÍCÍ STŘECHY</a:t>
            </a:r>
            <a:r>
              <a:rPr b="1" lang="en-US" sz="1000" spc="-1" strike="noStrike">
                <a:solidFill>
                  <a:srgbClr val="ffffff"/>
                </a:solidFill>
                <a:latin typeface="Times New Roman CE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3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4920" y="903240"/>
            <a:ext cx="1809720" cy="905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86440" y="90252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4T12:09:04Z</dcterms:created>
  <dc:creator>Libuna</dc:creator>
  <dc:description/>
  <dc:language>en-US</dc:language>
  <cp:lastModifiedBy>Libor Švaříček</cp:lastModifiedBy>
  <cp:lastPrinted>2000-06-07T12:15:56Z</cp:lastPrinted>
  <dcterms:modified xsi:type="dcterms:W3CDTF">2011-04-19T07:58:01Z</dcterms:modified>
  <cp:revision>141</cp:revision>
  <dc:subject/>
  <dc:title>bez titulu</dc:title>
</cp:coreProperties>
</file>